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30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8.png" ContentType="image/png"/>
  <Override PartName="/ppt/media/image7.jpeg" ContentType="image/jpeg"/>
  <Override PartName="/ppt/media/image6.png" ContentType="image/png"/>
  <Override PartName="/ppt/media/image9.png" ContentType="image/png"/>
  <Override PartName="/ppt/media/image10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26.wmf" ContentType="image/x-wmf"/>
  <Override PartName="/ppt/media/image25.wmf" ContentType="image/x-wmf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98280" y="771120"/>
            <a:ext cx="5102280" cy="38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199120" cy="4593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2"/>
          </p:nvPr>
        </p:nvSpPr>
        <p:spPr>
          <a:xfrm>
            <a:off x="4022640" y="9723240"/>
            <a:ext cx="3068640" cy="502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46CBC-E580-4800-9103-8076AB94BD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C31BC-A144-4E82-85AC-A15A7AEC17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52E81-03FF-4392-A0BB-40277B2551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DA0AF-43DD-4B95-A6B0-F74401CD39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10393-703C-4BAD-A6D2-581BFF9DE3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37565-CE7E-4F85-93F9-ADE9801BDE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B00CA-569D-45A4-A11B-3043672F85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5B432-0601-4F19-B11C-99C999139F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0AFC1-05C7-4714-82B4-F62D8ABB0B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4DA53-81B5-43BB-9B51-9B10F4640C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32164-95EF-4F31-B20B-AB8347903B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AEB5C-771D-45D7-8C45-6387BDCCBF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3F1EB-EF25-402D-8ADB-6F8CD05484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EC483-25D8-4CB1-8F13-52DCCE8633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6B6A3-F54A-484C-A5CA-7EDDFE12DF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6A125-E7A9-44F0-9F96-F499461B5E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5D820-4AE2-4F43-B768-8A54027460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E8F79-54D3-426E-B1F4-9E9AE013AE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2B7C8-B849-43AC-8387-17D5659A16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3B015-054A-453F-8494-92F53854AC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21BFE-8896-4862-B1C0-D196F82396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9D965-E3FF-447B-83F5-6CE3CD8207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53E70-9E4B-4875-AD87-FFC3F886F5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B095A-6370-4EF2-AB90-CC25C7A9A4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58641-5A0D-4F96-8AF9-02B3C3549A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80FCD-E175-4168-9855-761FC39B4B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CAC2B-A70B-4F17-A2CB-B55639E1E4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207F4-FDC4-4C8E-B28C-44D99E466D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BBB6F-1E47-4851-9CA2-D6E8E49634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77D00-0692-461E-AB11-FA69A1AC4C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7FC6C-2CDE-4C73-AEAD-C5DD9B7A6D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3A4AA-A33A-4168-A269-5203D8CFCA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E995C-FF70-41C7-9BDC-71FB6530D1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98E61-FD04-497F-BA8E-306EDDD685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CE8A0-2D7A-4E3B-9552-07873FAF0B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2246B-E7CC-4A7B-8F4C-7B89F68B9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B64B8-3CC1-44EC-9805-B084B7E47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11B50-F72C-4912-B35D-F78B10B88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780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104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92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780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104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7ED21-9F89-4CC2-9C08-8AA5C55C0C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5956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186FC-BA4D-4475-A087-D0426A417D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8780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7104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492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8780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7104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F4AD9-7D10-4610-83C8-19F8AFFE24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DD920-83D0-4014-A85B-9A4C8A426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C4700-6738-43E8-8DCB-0E2743D167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5956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087B8-49EF-4FD8-A2FF-121C2352D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D242A-7E47-4621-B2EE-7A2DD447D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66B74-D228-472F-9139-9E57B0669B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B1966-629F-4C50-8916-29B60FE828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186760" y="6496200"/>
            <a:ext cx="906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5D539-C473-4434-9A6A-6304A559EC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7b1c15"/>
          </a:solidFill>
          <a:ln w="9360">
            <a:solidFill>
              <a:srgbClr val="63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7b1c15"/>
          </a:solidFill>
          <a:ln w="9360">
            <a:solidFill>
              <a:srgbClr val="63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ida.liu.se/labs/pelab/modelica/OpenModelica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56196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7b1c15"/>
                </a:solidFill>
                <a:latin typeface="Trebuchet MS"/>
              </a:rPr>
              <a:t>OpenModelica Eclipse Plugin and </a:t>
            </a:r>
            <a:br>
              <a:rPr sz="4800"/>
            </a:br>
            <a:r>
              <a:rPr b="0" lang="en-GB" sz="4800" spc="-1" strike="noStrike">
                <a:solidFill>
                  <a:srgbClr val="7b1c15"/>
                </a:solidFill>
                <a:latin typeface="Trebuchet MS"/>
              </a:rPr>
              <a:t>MetaModelica Exerci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3213000"/>
            <a:ext cx="712944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drian P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rebuchet MS"/>
              </a:rPr>
              <a:t>adrian.pop@liu.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ELAB/IDA/LIU,  2007-03-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Updated 2010-11-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by Peter Fritzson and Martin Sjöl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97866-BE83-4B70-8E4A-31D2CA20D0A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ose all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C2A73-03AC-4184-BFC2-F345FC4CBA2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witch to Modelica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5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51D0E-E484-4DA7-8B95-1E44A2FC95C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how the OpenModelica Console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5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4773D-1E3B-4B99-BA10-C256DCD3ABD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-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0_simples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perform a simple simulation in the MDT Eclipse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ype or copy a simple model into an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Open the Eclipse view “OpenModelica conso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imulate with the simulate com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plot with the plot comm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Note: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following exercises you will no longer use the “OpenModelica conso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B3107-0849-489A-9C9F-723C1C2C18A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01 - 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76032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(02b_exp2 op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 (op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3D05F-BF2A-4833-9ED2-A25EC6EC513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pen the first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720720"/>
            <a:ext cx="6534000" cy="3600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DE85E-8B69-413B-AD0B-7A81D8E9B24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uild the first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971720" y="2700360"/>
            <a:ext cx="91440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780000" y="1254240"/>
            <a:ext cx="1979280" cy="1812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16040" y="2049480"/>
            <a:ext cx="709956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use Rebuild Project or the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ild Project only works if you modify a sourc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having pressed the button once, Alt+B can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46205-1054-4941-B53A-6184D0834CD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Building a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351640" cy="6264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>
            <a:off x="4564080" y="2133720"/>
            <a:ext cx="736560" cy="237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09080" y="1440000"/>
            <a:ext cx="420840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4928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leans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4928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runs th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2835360" y="4861080"/>
            <a:ext cx="1744560" cy="131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619280" y="4861080"/>
            <a:ext cx="431640" cy="736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680" y="5580000"/>
            <a:ext cx="382608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ntax problem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pd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save in the problems vi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86040" y="5950080"/>
            <a:ext cx="35899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ild and run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displayed i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B48C0-46AA-48F4-97E5-7B7DA4AE85F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42920" y="0"/>
            <a:ext cx="810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C Debug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52948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0_simplesim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(02b_exp2 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 (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C49A4-7C27-4ECF-B9F6-1AFAEAD0CCC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bugging using O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Not yet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Debug data structures using printAny(da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You can also switch to RML for an algorithmic debug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5B232-455F-4451-83A8-12C93D221F8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penModelica MDT – Eclipse Plu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Browsing of packages, classes,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utomatic building of executables;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eparate comp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yntax highl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de completion,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de query support for 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utomatic Ind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Debugger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(Prel. version for algorithmic subs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956200" y="1692360"/>
            <a:ext cx="299088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6A8D2-D786-4933-943D-A121546778E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0"/>
            <a:ext cx="860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hanging compiler to R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900000"/>
            <a:ext cx="9144000" cy="506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81894-D1B0-4A2A-B58F-B877F081C63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0"/>
            <a:ext cx="860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ting the debug configuration (RML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E7916-668B-4C6E-B0A7-C52364FB645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pecify the name of the execu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flipH="1" flipV="1">
            <a:off x="5643360" y="2341440"/>
            <a:ext cx="1260360" cy="655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24360" y="299736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Browse and select the executable you just bui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0F2A1-C6F5-40C5-9724-8A5C5498236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 breakpoints in .mo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flipH="1" flipV="1">
            <a:off x="2043000" y="2916000"/>
            <a:ext cx="1548000" cy="159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11280" y="4508640"/>
            <a:ext cx="31687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click on the ruler to set break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75CBB-A71F-4644-A9BE-762AF6C7240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0"/>
            <a:ext cx="8748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un the debug configuration to start debug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flipH="1" flipV="1">
            <a:off x="963720" y="973080"/>
            <a:ext cx="1619280" cy="3176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03280" y="4149720"/>
            <a:ext cx="3384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and selec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bugging will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FE3F3-6D22-493D-90E8-BB70F5E79A6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clipse will ask to switch to debugging persp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6DC22-A2D6-4EB7-A348-A9796A61C82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bugging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flipV="1">
            <a:off x="1763640" y="1333440"/>
            <a:ext cx="2016360" cy="3471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479736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buttons to st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step into works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219640" y="1620360"/>
            <a:ext cx="360360" cy="282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3280" y="450864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 variables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there is a tab with break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34D94-2C17-4B6B-9F58-0AAADFD2FC4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witching persp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57387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flipV="1">
            <a:off x="4448160" y="1476000"/>
            <a:ext cx="3579840" cy="303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4508640"/>
            <a:ext cx="352728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between Debug and Modelica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A8AF2-5E30-4CD8-9463-85D6E811B9D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repeat the procedure for all 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02b_ex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a_assigntw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b_modassigntw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6_advan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7_OMCAndCor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leave open only the project you are working on!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ose all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522E6-1681-48CE-A706-AEE11F5DBBF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Building a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98360" y="620640"/>
            <a:ext cx="862164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3BD46-5335-4208-8107-8AE1B28AC3F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Eclipse and Exercise Se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ll 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0_simple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02b_ex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a_assigntw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b_modassigntw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6_advan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7_OMCAndCor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8-11 – as samples of Prog. Lang. 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09F35-1DC6-470C-BBD0-A08138C1229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Opening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96720" y="620640"/>
            <a:ext cx="8352000" cy="6264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580000" y="836640"/>
            <a:ext cx="2924280" cy="58197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572000" y="2060640"/>
            <a:ext cx="100800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33400" y="5445000"/>
            <a:ext cx="38275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pen additional vie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7b1c15"/>
                </a:solidFill>
                <a:latin typeface="Times New Roman"/>
              </a:rPr>
              <a:t>Window-&gt;ShowView-&gt;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ABAB3-0115-4F3F-8AC4-08834BEC077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5280" y="91440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Each exercise is in a different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ll exercises hav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README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- information about the exer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SOLUTION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– the solution of the exercise (if the exercise has some implementation assign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program.txt</a:t>
            </a:r>
            <a:r>
              <a:rPr b="1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– input program to the exercise, edit if needed (for the exercises which have an in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nsult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MetaModelica Programming Guid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and the slides if you need additional information during the exerci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Of course, feel free to ask us any type of questions, it is faster and bett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FDB35-F521-4BFC-928B-FC80A7BE4F6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-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1_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experiment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functions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Functions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o display the constants defined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Main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and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Functions.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FF7AF-836D-4D80-87AC-FD1A0BED6B4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2a_exp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will add new constructs to the exp1 language and deal with their eval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- add new constructs to the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 power operator   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(^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 factorial operator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(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Exp1.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N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parser/lexer are ready, but give parser errors for the new operators until they are added in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Exp1.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26232-D5BC-4A57-9AE6-86AA7E472D6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2b_exp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explore a different way to model the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exp1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language using different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Exp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Explore th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Exp2.mo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file and compare it with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Exp1.mo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D3CC1-DAF5-4267-B271-CAB8B7134EE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3_symbolicderiv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rules to derive ‘-’, ‘*’, sine, cosine and power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rules to simplify ‘-’, sine, cosine and power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800" spc="-1" strike="noStrike">
                <a:solidFill>
                  <a:srgbClr val="213159"/>
                </a:solidFill>
                <a:latin typeface="Courier New"/>
                <a:ea typeface="DejaVu Sans"/>
              </a:rPr>
              <a:t>SymbolicDerivative.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3FFB8-AC8C-486F-AF78-080A3890826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4_ass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 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- add functions to pri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assignments present in the current program before the actual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environment after it was augmented with the ass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800" spc="-1" strike="noStrike">
                <a:solidFill>
                  <a:srgbClr val="213159"/>
                </a:solidFill>
                <a:latin typeface="Courier New"/>
                <a:ea typeface="DejaVu Sans"/>
              </a:rPr>
              <a:t>Assignment.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BA792-77D7-4B4D-8CB3-963992A8ABE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5a_assigntwo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- add functions to pri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a new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String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ype which can hold only integers as strings to the current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Exp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n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cases to evaluate expressions/assignments of the form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"2" + 1 + "1" + 1.0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in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eval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AssignTwoType.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8110C-714A-4A50-85C8-20CCDDA959B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5b_modassigntwo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explore a different way to structure your code within different pack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e code from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05a_assigntwotype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s now split over 4 pack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ompare the 05a/b pro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248DA-34BE-4053-B59A-3B5849981E9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experiment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polymorphic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higher order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function that orders a list of any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function has as input a list and a compare function between the objects of that l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the comparison functions for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Integers</a:t>
            </a:r>
            <a:r>
              <a:rPr b="0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,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Strings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and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Reals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est your function on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int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A8ED8-134F-4B7E-8701-A11D8B4ECB3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lected Exercises in this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76032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0_simple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(02b_exp2 op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 (op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2AF82-176A-403E-B128-28E94EDD6DF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map function that applies a function over a list and returns a new list with th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three functions that transform fr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integer to re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integer to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real to 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Use your map function and the two transformation functions to transform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intLis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o a list of reals and a list of string, then apply the ordering function from Assignment 1 on the newly created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C66F4-AB19-47F3-989A-2519176AC40E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map function that applies a print function over a list (of Strings) and prints th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Use the transformer functions from real-&gt;string and integer-&gt;string from Assignment 2 to transform the real list or the integer list to a string list for prin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4F067-B7A8-4015-A5AF-4B166BFEED6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C Overvi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213159"/>
                </a:solidFill>
                <a:latin typeface="Trebuchet MS"/>
              </a:rPr>
              <a:t>We are Switching to OMC Overview 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7C089-04B5-4F14-A57B-D475F0FF5DD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6160" y="-46440"/>
            <a:ext cx="746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Development Toolkit (OMDev)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MDev is a pre-packaged pre-compiled kit containing all tools needed for OpenModelica development.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lvl="1" marL="535320" indent="-20052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Just unpack and set some environment variables. (Windows)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lvl="1" marL="535320" indent="-20052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apt-get build-dep openmodelica (Ubuntu/Debian Linux)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MetaModelica Compiler (MMC) – for developing OMC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penModelica Compiler (OMC) – for browsing support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Eclipse plugin MDT – (Modelica Development Tooling), e.g. for compiler (OMC) development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Pre-compiled Corba (MICO or omniORB) for tool communication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Packaged Gnu compiler (GCC; Mingw version for Windows)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Emacs mode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nline (web) Subversion for version handling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nline (web) Codebeamer for bug reporting and management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Automatic regression testing using a test suite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Unit testing using the bootstrapped OpenModelica Compiler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Interactive MetaModelica debugger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A0530-B924-4AA2-BED4-4C63499F1A0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0920" y="-79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Environment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26146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46120" y="1509840"/>
          <a:ext cx="7918560" cy="39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09840"/>
                    <a:ext cx="7918560" cy="39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7D486-E676-471F-BCBC-4CBAA489487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Client-Server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233360" y="1201680"/>
          <a:ext cx="657072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1201680"/>
                    <a:ext cx="657072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68391-043E-44C4-960B-F3D753EEA91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leased in OpenModelica 1.5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Compiler/Interpreter – OM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teractive session handler – OMS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Notebook with DrModelica and DrControl –  OMNoteboo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Eclipse plugin M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mForge graphic ed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MetaModelica Debug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2097B-D345-4D12-BDDB-782DB8871EE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Compiler/Interpr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3040" y="1125360"/>
            <a:ext cx="876312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1.5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urrently implemented in 280 000 lines of MetaModelica (1.4.5 was 180 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cludes code generation, BLT-transformation, index reduction, connection to DASSL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Most of the Modelica 3.1 language including classes, functions, inheritance, modifications, import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Hybrid/Discrete event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AFB4C-CEF6-4E5C-B921-AACB5ACF782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rba Client-Server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914400"/>
            <a:ext cx="71247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imple text-based (string) communication in Modelica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PI supporting model structure query and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5040" y="2803680"/>
            <a:ext cx="7149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Cal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fulfill the normal Modelica function call syntax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veModel("MyResistorFile.mo",MyResis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save the model MyResistor into the file “MyResistorFile.mo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reating new models it is most practical to send a model, e.g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el Foo   end Foo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e.g.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or Port   end Por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314D6-2633-4C75-908F-E5DED65C7AA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ome of the Corba API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03040" y="765000"/>
          <a:ext cx="8509320" cy="21732840"/>
        </p:xfrm>
        <a:graphic>
          <a:graphicData uri="http://schemas.openxmlformats.org/drawingml/2006/table">
            <a:tbl>
              <a:tblPr/>
              <a:tblGrid>
                <a:gridCol w="3237120"/>
                <a:gridCol w="5272200"/>
              </a:tblGrid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saveModel(A1&lt;string&gt;,A2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343080" indent="-335160" algn="just">
                        <a:lnSpc>
                          <a:spcPct val="68000"/>
                        </a:lnSpc>
                        <a:tabLst>
                          <a:tab algn="l" pos="0"/>
                          <a:tab algn="l" pos="343080"/>
                          <a:tab algn="r" pos="3392640"/>
                          <a:tab algn="l" pos="3649680"/>
                          <a:tab algn="l" pos="4564080"/>
                          <a:tab algn="l" pos="5478480"/>
                          <a:tab algn="l" pos="6392880"/>
                          <a:tab algn="l" pos="7307280"/>
                          <a:tab algn="l" pos="8221680"/>
                          <a:tab algn="l" pos="9136080"/>
                          <a:tab algn="l" pos="10050480"/>
                          <a:tab algn="l" pos="10326600"/>
                          <a:tab algn="l" pos="1077588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Saves the model (A2) in a file given by a string (A1). This call is also in typed API.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loadFile(A1&lt;string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Loads all models in the file. Also in typed API. Returns list of names of top level classes in the loaded fil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loadModel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Loads the model (A1) by looking up the correct file to load i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$MODELICAPATH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Loads all models in that file into the symbol table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las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class from the symbol tabl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omponent(A1&lt;ident&gt;,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a component with name (A1), type (A2), and class (A3) as arguments. Optional annotations are given with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omponent(A1&lt;ident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a component (A1) within a class (A2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updateComponent(A1&lt;ident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Updates an already existing component with name (A1), type (A2), and class (A3) as arguments. Optional annotations are given with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lassAnnotation(A1&lt;cref&gt;, 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annotation given by A2( in the form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= classmod(...))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to the model definition referenced by A1. Should be used to add Icon Diagram and Documentation annotat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343080" indent="-154080" algn="just">
                        <a:lnSpc>
                          <a:spcPct val="6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a list of the component declarations within class A1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154080" algn="just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{Atype,varidA,”commentA”},{Btype,varidB,”commentB”}, {...}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Annotations(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a lis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...}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of all annotations of all components in A1, in the same order as the components, one annotation per componen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components in a class, e.g retur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2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there are 2 componen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belonging class, component name and type name of the nth component of a class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A.B.C,R2,Resistor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where the first component is numbered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flattened annotation record of the nth component  (A2) (the first is has no 1) within class/component A1. Consists of a comma separated string of 15 values, see Annotations in Section 2.4.4 below, e.g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false,10,30,...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Modification(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?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modification of the nth component  (A2) where the first  has no 1) of class/component A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Inheritance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inherited classes of a clas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InheritedClass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type name of the nth inherited class of a class. The first class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nnection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connections in the mode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ion, as a comma separated pair of connectors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R1.n,R2.p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ion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ion annotation as comma separated list of values of a flattened record, see Annotations in Section 2.4.4  below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onnection(A1&lt;cref&gt;,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 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connectio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connect(A1,A2)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to model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with annotation given by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update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A3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Updates an already existing connec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A3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connection connect(A1,A2) in class given by A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Equation(A1&lt;cref&gt;,A2&lt;expr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expr&gt;)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the equation A2=A3 to the model named by A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Equation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of equations (as a string) in the model named A1. (This includes connectio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Equation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(A2) equation of the model named by A1.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der(x)=-1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or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connect(A.b,C.a)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NthEqua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nth (A2) equation in the model named by A1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nnector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of connectors (as a string) of a class A1. NOTE: partial code instantiation of inheritance is performed before investigating the connector count, in order also to get the inherited connecto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 of the nth connector, e.g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n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connector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Icon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or icon layer annotation as comma separated list of values of a flat record, see Annotation below. NOTE: Since connectors can be inherited, a partial instantiation of the inheritance structure is performed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DiagramAnnotation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or diagram layer annotation as comma separated list of values of a flat record, see Annotation below. NOTE: Since connectors can be inherited, a partial instantiation of the inheritance structure is performed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IconAnnota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Icon Annotation of the class named by A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DiagramAnnota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Diagram annotation of the class named by A1. NOTE: Since the Diagram annotations can be found in base classes a partial code instantiation is performed that flattens the inheritance hierarchy in order to find all annotat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Package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Packages in a class/package named by A1 as a list, e.g.: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Electrical,Blocks,Mechanics, Constants,Math,SIunits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Packages(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package definitions in the global scop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Name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class defintions in a class/packag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Names(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class definitions in the global scop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Restric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kind of restricted class of &lt;cref&gt;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model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connector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unction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packag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Typ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typ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rimitiv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of primitive typ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onnector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connector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Model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model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Record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record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Block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block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Func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function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ackag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packag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las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class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arameter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parameter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onsta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constant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rotected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protected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Class(A1&lt;cref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Tabl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Model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 table and has restriction model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Packag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 table and has restriction packag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DE666-1A01-480D-8940-A7B3F6021D3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Switching Work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04640" y="608040"/>
            <a:ext cx="8332920" cy="6249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4371840" cy="2324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484360" y="3429000"/>
            <a:ext cx="151128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65200" y="1800360"/>
            <a:ext cx="465516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lean work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import many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356DA-71A6-4CB4-821F-21B12D21F85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ll OpenModelica GUI tools (OMShell, OMNotebook, ...) are developed on the Qt4 GUI library, portable between Windows, Linux,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Both compilers (OMC, MMC) are portable between the three platforms and compiled nigh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Windows – main release plat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Linux – main development plat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Mac –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67DDA-27C7-4EC3-8807-CDBCA9263CD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Switching to Java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31708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BE547-5CC6-427D-A074-76DA740F409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7_OMCAndCor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send commands to the OMC Compiler (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omc.exe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) via COR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OMCProxy.java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has functionality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tarting the omc process if is not already sta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starting is a bit different for Windows/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nding commands to O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logging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f you need clients in C++ or Python che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ea typeface="DejaVu Sans"/>
                <a:hlinkClick r:id="rId1"/>
              </a:rPr>
              <a:t>http://www.ida.liu.se/labs/pelab/modelica/OpenModelica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developer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9B5B3-5AF7-48CA-AF58-ECB009803F9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68360" y="627120"/>
            <a:ext cx="8307360" cy="6230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0" y="2095560"/>
            <a:ext cx="4762440" cy="47624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4381560" y="209556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266920" y="6308640"/>
            <a:ext cx="936720" cy="549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274920" y="3492000"/>
            <a:ext cx="2376720" cy="282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58920" y="5013360"/>
            <a:ext cx="93672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108080" y="1125360"/>
            <a:ext cx="2967120" cy="352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F2A6D-27E5-498C-AE93-E5B7AB50932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dministrative 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7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  <a:ea typeface="DejaVu Sans"/>
              </a:rPr>
              <a:t>What would you like to implement tomorro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7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  <a:ea typeface="DejaVu Sans"/>
              </a:rPr>
              <a:t>in the OpenModelica Compil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47880"/>
            <a:ext cx="74674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mport Projec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7920" indent="-27792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le → Impor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General → Existing projects into workspac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340000"/>
            <a:ext cx="9144000" cy="39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F13A9-DDFF-4DAF-AA15-D35F6C3501E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lect and Open all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973CD-5799-4703-9986-4EC32B7A506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on't build projects automat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3840" y="720720"/>
            <a:ext cx="887724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F540D-D4E7-4B98-8E6B-61138B1DC77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fresh all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5738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2:12:12Z</dcterms:created>
  <dc:creator>Adrian Pop [adrpo@ida.liu.se, http://www.ida.liu.se/~adrpo]</dc:creator>
  <dc:description/>
  <dc:language>en-US</dc:language>
  <cp:lastModifiedBy>Martin Sjölund</cp:lastModifiedBy>
  <cp:lastPrinted>2001-06-05T14:43:50Z</cp:lastPrinted>
  <dcterms:modified xsi:type="dcterms:W3CDTF">2009-10-23T07:24:48Z</dcterms:modified>
  <cp:revision>44</cp:revision>
  <dc:subject>MetaModelica</dc:subject>
  <dc:title>MetaModelica Tutorial and Exercises</dc:title>
</cp:coreProperties>
</file>